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8E4E-8EE5-425F-90DE-73D51A34C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F118-01CB-4BDD-BA76-9EE7ED292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E426-FBA5-42C5-B545-5B2805158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C99A-B008-48BD-9E32-C5528ECC6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A7B0-B74B-4943-BF43-9D807D76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451E-316C-408B-9E1E-84C3FF114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E0B1-0913-42D7-8484-F088F4ACE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E4D6-FD0D-482A-BF23-E3CF7419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A32F-CB1E-4F55-A5F4-BACB60B37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5CD3-7D13-4B75-977F-DD68906CB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E0F4-12D4-41B3-84EE-4E34152BF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667B-AF45-4978-82E9-7E60E17F4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76F5-DA4D-4AE6-B6E5-FBEF9EB89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2913-BD06-4619-83F2-4FF87D2F9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9E53-9128-4103-A3C1-C2E570D56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E842-BDC9-42A1-B19E-ACFCA0361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6755-5DD5-4AC2-A6EF-AFF078B41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80E2-0D64-4596-94CD-87EEEE2A2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7430-C631-4180-9550-EC16C1399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6DBA-F9D7-4CBC-87CF-9790B99C4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C61B-9BB5-4590-AD68-82BB79A1E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F2C5-7AA0-423C-9E1C-90A6D096C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BE03-3224-4771-96DF-2A5C1CCD4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E591-D5F3-422E-9125-4E2363DE9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3D76-7AA8-4547-AA9B-AB76CD2FB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0F43-91A3-4634-8991-2EA5A78B6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9701-DF62-4320-A000-3DB4A19D0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DD77-D448-40C3-A715-797C0FBD8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4DB8-982C-4E3D-810C-00A0B8261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DEB6-E653-464D-AFED-E722FDD8A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70C0-4B98-4341-8E9E-5AA169848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5BB9-8F22-4A91-BA8F-FB0E8FD61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CC14-039C-4FE2-BE4D-E1BC44ACC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9DE7-9D67-4CF2-B073-B7B3D4632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F606-57E8-4C30-8335-62572F3CC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069-B51A-4F14-B23A-353C4A58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A05-FB14-427B-85EA-078DA729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22D-C049-49CC-AFA1-8A90AA7A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9A04-4F5F-4764-B5B8-EA28FDAF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C78-A995-4B09-A315-5BC5935D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D5B-2758-45E2-A03C-850978A3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16AF-C1D0-4F79-BF00-37253335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366-CDDC-4D0D-AA72-4FE3F81E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B51D-8A2C-4DFD-9478-BFAD327E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752-102B-4C0E-9ACA-B9B1A532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8865-9ABA-4EA7-AEC2-616730DD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850-9145-4FF9-9E7E-F1AADE07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2022-0D8A-4B52-B858-8785551BA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9A6E-CCFA-4AB7-BB21-9AD8756A6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Arial"/>
              </a:rPr>
              <a:t>Примена седације у стоматологији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4060440"/>
            <a:ext cx="810576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едности фармакоседације, Индикације и контраиндикације, Избор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јпогодније технике седације у стоматологиј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Arial"/>
              </a:rPr>
              <a:t>Доц. др </a:t>
            </a:r>
            <a:r>
              <a:rPr b="1" i="1" lang="sr-RS" sz="1400" spc="-1" strike="noStrike">
                <a:solidFill>
                  <a:srgbClr val="000000"/>
                </a:solidFill>
                <a:latin typeface="Arial"/>
              </a:rPr>
              <a:t>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869400" y="6180120"/>
            <a:ext cx="718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Copyright © 20</a:t>
            </a:r>
            <a:r>
              <a:rPr b="0" lang="sr-Latn-R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C05E-467D-439F-97D4-CFF2D4DA2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реглед пацијента пре сед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01480" y="1679400"/>
            <a:ext cx="8141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на општег здравственог с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 се да би се одреди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 ли пацијент може да физички и психички поднесе стрес у току интервен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 ли је потребно модификовати уобичајени приступ како би пацијент боље толерисао стрес од интервен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 ли је потребно применити неки од метода сед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 ли постоје било какве контраиндикације за примену појединих медика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991F-302C-4C91-9D81-2F7E5E9DE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реглед пацијента пре сед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514440" y="1841400"/>
            <a:ext cx="8140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на општег здравственог стања треба да подразуме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пуњавање упитника о здравственом стањ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гистровање допунских анамнестичких пода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 преглед виталних функција (артеријски крвни притисак, срчани ритам, ритам дисања и визуелна инспекција пацијен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мониторинг у току сед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0CB1-C48A-4EFA-937E-9E7E5CDC7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збор најпогодније технике седације у стоматоло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01480" y="1754280"/>
            <a:ext cx="8141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цијенти веома уплашени  и неподобни за сарадњ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интравенска и инхалациона сед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лаго уплашени пације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орална и интрамускуларна сед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C:\Users\Zoran\Downloads\anestezija\imagesCASK1VJ0.jpg"/>
          <p:cNvPicPr/>
          <p:nvPr/>
        </p:nvPicPr>
        <p:blipFill>
          <a:blip r:embed="rId1"/>
          <a:stretch/>
        </p:blipFill>
        <p:spPr>
          <a:xfrm>
            <a:off x="2817720" y="373212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5DB7-C051-4445-8388-724119CF2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Технике сед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88880" y="1741320"/>
            <a:ext cx="8204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дација се, у оквиру стоматолошке праксе, може извести на више начи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рамускула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равен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алацио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 применом одговарајућих ле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6BAE-8DD5-4EA9-A475-ACCE2F5D6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Технике сед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14440" y="1803240"/>
            <a:ext cx="8253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и лекови су ефикасни у смислу смањења или уклањања страха или неспокојства због предстојеће стоматолошке интервенциј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но подизању прага реакције на очекивани бол у току интервен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поменуте технике различит је латентни пери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 интравенске и инхалационе примене лекова за седацију, латентни период је веома кратак (у оквиру једног минута) и овај начин представља седацију у ужем смис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тентни период после оралне и интрамускуларне примене медикамената знатно је дужи (15 – 30 мин) и овај начин се често означава као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медикаци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294A-BCC9-4DFC-9568-E98079EBA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463680" y="1741320"/>
            <a:ext cx="81788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ности интравенске сед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за лека се може веома прецизно контролисати и активно регулисати према жељеном степену постигнуте сед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асност од предозирања је миним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 се безбедно постићи најдубљи степен седације, а да се пацијент не усп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 тога, примена ове технике не захтева скупу апаратуру, а и период опоравка је сразмерно крат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9429-F100-4A83-9947-8E72A6225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450720" y="1552680"/>
            <a:ext cx="8191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упак интравенске седације подразумева два одвојена поступ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непунк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у одговарајућих медика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НЕПУН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 постављање игле у венски крвни суд ради интравенске примене лекова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инуирана инфузија је најприхватљивији метод за примену ив седације, а проходност система не само да није компромитована већ се пацијент истовремено хидрира. (Хартман, Рингер, Глукоз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E2DC-AA31-4E0A-A735-EA887BE9D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463680" y="1728720"/>
            <a:ext cx="8178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БОР ЗА ВЕНЕПУНК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не игле различитог типа, помоћни прибор и сет за инфуз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501480" y="3094200"/>
            <a:ext cx="3835440" cy="324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4549680" y="3108240"/>
            <a:ext cx="44085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FD49-1EF3-461F-A01B-A01AA9D4B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TextBox 7"/>
          <p:cNvSpPr/>
          <p:nvPr/>
        </p:nvSpPr>
        <p:spPr>
          <a:xfrm>
            <a:off x="501480" y="1440000"/>
            <a:ext cx="8128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бор в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амбулатној стоматолошкој пракси, за извођење ив седације најприхватљивији је избор неке од површних вена ру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tretch/>
        </p:blipFill>
        <p:spPr>
          <a:xfrm>
            <a:off x="450720" y="2917800"/>
            <a:ext cx="2625840" cy="334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2"/>
          <a:stretch/>
        </p:blipFill>
        <p:spPr>
          <a:xfrm>
            <a:off x="5288040" y="2908440"/>
            <a:ext cx="1528560" cy="34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1" name="TextBox 10"/>
          <p:cNvSpPr/>
          <p:nvPr/>
        </p:nvSpPr>
        <p:spPr>
          <a:xfrm>
            <a:off x="3206880" y="409572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шне вене на надлан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дорзум ша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6989760" y="4172040"/>
            <a:ext cx="19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ефалична и базилична вена у лакатном прегиб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"/>
          <p:cNvSpPr/>
          <p:nvPr/>
        </p:nvSpPr>
        <p:spPr>
          <a:xfrm>
            <a:off x="5950080" y="4295880"/>
            <a:ext cx="425160" cy="26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25FF-692C-4A6F-A7B4-C60F75502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476280" y="1828800"/>
            <a:ext cx="817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ХНИКЕ ВЕНЕПУН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непункција отпочиње инспекцијом руке ради избора вене за венепунк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2530440" y="2768760"/>
            <a:ext cx="3944880" cy="36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B823-4AA4-493C-B6B3-7BD51EFC1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јам сед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576360" y="1954080"/>
            <a:ext cx="8042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ах од бола за који се претпоставља да може бити нанет у току стоматолошке интервенције свакако је један од најчешћих разлога за избегавање стоматолошле ордин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ах од бола или локалне анестезије не морају бити једини страх од стоматолошког третм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тово свака појединост у вези са посетом ординацији као на пример, бела одећа лекара, карактеристичан мирис у ординацији може изазвати страх код појединих пацијен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502E-538E-4920-B901-85FA3CB45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325440" y="2543040"/>
            <a:ext cx="4068720" cy="2772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2"/>
          <a:stretch/>
        </p:blipFill>
        <p:spPr>
          <a:xfrm>
            <a:off x="4824360" y="2532240"/>
            <a:ext cx="3956040" cy="28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5B41-BE37-450A-8F42-E78711946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476280" y="1665360"/>
            <a:ext cx="8166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ОВИ КОЈИ СЕ КОРИСТЕ ЗА ИВ СЕД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 се користе психоседативни лекови из групе ▪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анксиолитик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дијазепам, мидазола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барбитура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тиопенто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наркотички аналгетиц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меперидин, фентал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антихолинергици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ропин, скопола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бензодијазепински антагонист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флумазел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свих наведених медикамената, највећи значај имају бензодијазепински препарати јер се њиховом самосталном употребом могу постићи жељени ефекти уз максималну безбед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8AA1-4ED3-45D9-B2C7-223C89040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63680" y="1677960"/>
            <a:ext cx="8154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ЗЕ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ада групи бензодијазепина. Има изразито анксиолитичко дејство, изазивајући губитак страха и напетости, поспаност и пријатно стање релакс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ебно повољна карактеристика је што не утиче на функције кардиоваскуларног и респираторног систе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 се самостално примењује, уобичајене дозе лека су 10-20м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3931-154F-460D-A2BA-E21663E0E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476280" y="1741320"/>
            <a:ext cx="8166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ИДАЗО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 припада групи бензодијазепина и ефекти на организам су у суштини исти као и ефекти дијазепама, али са знатно јачим хипнотичким ефектом, због чега је могућност предозирања већа него што је случај са дијазепамом. Из тог разлога користи се у двоструко мањој дози 5 – 10 м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тра се да је мидазолам погоднији за амбулантну примену због знатно брже биотрансформације, због чега ефекти седације трају краће после завршене интервен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2E00-CDA6-4A7C-988F-FD96EB0C3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476280" y="1677960"/>
            <a:ext cx="8104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ОПЕН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ада групи барбитурата са краткотрајним деловањем и користи се у комбинацији више медикамената. Делује депресивно на ЦНС изазивајући седац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лује депресивно на респираторни центар, што представља опасност приликом примене овог препарата ако се изводи без претходне интуб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РЕПИДИН И ФЕНТАЛ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адају групи наркотичких аналгетицима са изразитим хипнотичким својствима. Због нус ефеката рутинска примена у седацији је дискутабил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A782-7FFA-403A-9C6D-DDD3883C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514440" y="1766880"/>
            <a:ext cx="8091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ТРОПИН И СКОПОЛА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су антихоленергици који се у склопу ив седације у стоматологији користе због ефекта на смањење саливације и секреције у респираторном тракту и корекције вагусно изазване брадикард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АГОНИСТИЧКИ ЛЕ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, принципијелно, користе ради неутралисања нежељених ефеката неког од примењених медикамен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агонист код дијазепама и мидазолама (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флумазели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значајнији  нузефекат наркотичких аналгетика јесте депресија дисања која се неутралише применом </a:t>
            </a: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налоксона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налорфина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B206-93F3-407C-8A50-CC2006A7F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225360" y="1690560"/>
            <a:ext cx="8918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ХНИКЕ ИВ СЕД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новним техникама ив седације, сматрају се технике код којих се користи само једно средство (дијазепам или мидазолам) - моносед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оргенсенова техника, представља оригиналну технику, која се данас сматра веома безбедном и делотворном. (када је потребна дуготрајна седација – два или више часо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нас се у стоматологији најчешће користи моноседација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бензодијазепино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мидазоло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која се може модификовати и другим медикамент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925D-5E19-4EF7-AC62-707C0CF32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463680" y="1754280"/>
            <a:ext cx="8242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НОСЕД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упак ив седације, уопште има три основне фа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Припремне рад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Сеан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▪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Фазу опорав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2B33-E91F-4D43-9F0F-B835931BC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450720" y="1565280"/>
            <a:ext cx="825516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премне рад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ављање индик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ознавање пацијента са његовим обавезама пре и после сед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 поступак почиње постављањем апарата за мерење артеријског крвног притиска и пулса на једној руци и извођењем венепункције на другој руц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C56D-FF62-4319-BED8-C5381DB5F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450720" y="1778040"/>
            <a:ext cx="8393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 се користи мидазолам, уобичајени поступак је да се лек лагано убризгава у болусима од приближно 2,5мг у току од око 15 секун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товремено се, сталним разговором са пацијентом, на основу његове вербалне комуникативности и кооперабилности, перманентно контролише ниво постигнуте сед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ед тога, постоје и специфични показатељи нивоа сед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ви кортикални знаци (поспаност, нејасан вид, неразговетан и успорен гов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рилов знак  (птоза горњег очног капка до половине зени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40D5-DA13-4208-9265-E3CDB808C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јам сед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488880" y="1603440"/>
            <a:ext cx="80787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оматолошке интервенције код оваквих пацијената могуће је извести уколико се изазове такво стање свести да се пацијент осети знатно опуштенијим и безбрижнијим него што је био пре т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ање такве релаксације данас се уопштено назив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едацијо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Седација је поступак примене лека или више лекова ради постизања одређеног ступња депресије централног нервног система у току кога је вербални контакт са пацијентом могућ пошто је свест очув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овај начин, интервенција се може извести безболно (уз локалну анестезију), на пацијенту који је опуштен, релаксиран и смир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C350-111C-4F66-AD8E-3F62517FA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5" name="Picture 7" descr="C:\Users\Zoran\Downloads\anestezija\imagesCASK1VJ0.jpg"/>
          <p:cNvPicPr/>
          <p:nvPr/>
        </p:nvPicPr>
        <p:blipFill>
          <a:blip r:embed="rId1"/>
          <a:stretch/>
        </p:blipFill>
        <p:spPr>
          <a:xfrm>
            <a:off x="2166840" y="2190600"/>
            <a:ext cx="4848480" cy="36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70F9-4EAB-4A4A-8D26-A5E4706C4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501480" y="1490760"/>
            <a:ext cx="82296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за опо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ухвата период после изведене интервенције, када се пацијент оставља у посебној просторији да се одмори 1 – 2 с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 отпуста, пацијенту треба извадити иглу из ве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C:\Users\Zoran\Pictures\11.jpg"/>
          <p:cNvPicPr/>
          <p:nvPr/>
        </p:nvPicPr>
        <p:blipFill>
          <a:blip r:embed="rId1"/>
          <a:stretch/>
        </p:blipFill>
        <p:spPr>
          <a:xfrm>
            <a:off x="2852640" y="3659040"/>
            <a:ext cx="323388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FF8E-2990-4735-A265-0B6A8CAD9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травенск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476280" y="1677960"/>
            <a:ext cx="820404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ргенсонова тех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сти комбинацију три медикамента – пентобарбитон, меперидин и скополамин – обезбеђујући седацију у току више од два с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овој техници, пентобарбитон изазива жељени ниво седације, меперидин изазива додатну седацију и одређени степен аналгезије, док скополамин инхибише секрецију у усној дупљи и дисајним путе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жина опоравка, иначе, зависи од пацијентове могућности да без помоћи хода и резултата испитивања виталних знак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048B-1E74-4692-87EE-71E9F45F3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Компликације ив седац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488880" y="1641600"/>
            <a:ext cx="8329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ЛИКАЦИЈЕ ПРИЛИКОМ ВЕНЕПУН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авенска апликација игле (најчешће услед погрешне техни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ешкоће у протоку инфузионог раст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раартеријска инје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јак бол који ирадира према периферији екстремит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слабљење радијалног пул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бледило коже екстремитета и његова хладно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0000"/>
                </a:solidFill>
                <a:latin typeface="Arial"/>
              </a:rPr>
              <a:t>НЕ ВАДИТИ ИГЛУ ИЗ АРТЕРИЈ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30F9-4B07-4D9A-944B-2F9F573DE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ив сед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476280" y="1654200"/>
            <a:ext cx="8191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ЛИКАЦИЈЕ УСЛЕД ПРИМЕНЕ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ер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пресија д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узеја и повра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дужени опорав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очекиване психолошке ре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8EFD-E304-4C55-BD8C-FB30E9E73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халацион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463680" y="1716120"/>
            <a:ext cx="8142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 техника подразумева примену мешавине азот-оксидула, кисеоника и ваздуха, а омогућава смањење страха и напетости уз очувану свест пациј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рактеристике инхалационе анестез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о брз наста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бина седације се може врло брзо мењ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ање седације се може регулисати по м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оравак је веома бр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цијент се отпушта без пратње и додатних огранич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ус ефекти од стране јетре, бубрега, кардиоваскуларног или респираторног система нису позн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5F16-4F52-4383-907C-E0E8A5658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халацион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450720" y="1703520"/>
            <a:ext cx="8204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алациона седација се углавном примењује апаратима за општу анестезију, или посебним апаратима само за примену мешав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зот-оксидула и кисео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току поступка инхалационе седације, азот-оксидул и кисеоник могу да се ослобађају у различитим међусобним однос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отребом 25% азот-оксидула – умерена аналг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отребом 25%- 45% азот-оксидула – дисоцијативна аналг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ом већих концентрација излази се из опсега сед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98F0-2825-4E13-814F-6C9C7438A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Орална седац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488880" y="1728720"/>
            <a:ext cx="8217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488880" y="1816200"/>
            <a:ext cx="8191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дација оралним начином може се ефикасно користити и за смањење страха и смирење пацијената пре стоматолошког леч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новна средства за оралну седацију припадају лековима груп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ксиолитика, седатива и хипно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ност оралне седације лежи у чињеници да се она веома ефикасно може користити у свакодневној стоматолошкој пракси, тим пре што не захтева било какав убод иглом, што за многе пацијенте представља посебну погод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082A-D2BC-46AC-8F23-E330EAC6B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Интрамускуларна седациј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476280" y="2079720"/>
            <a:ext cx="8242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а техника седације нема неку предност у односу на описане технике, због изузетно непријатног поступка интрамускуларне инјек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дикације за интрамускуларну седацију треба размотрити код пацијената са тешко видљивим венама или проблемима са дисањем на н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стоматологији се данас од препарата за им седацију користе бензодијазепини у дози од 10м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93BB-B286-40F8-AD19-5A7360BEA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Појам сед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514440" y="1967040"/>
            <a:ext cx="8103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ма поменутој дефиницији, стање смирености и релаксације постиже се применом одговарајућих лекова, због чега се поступак често назива и медикаментна односно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рмакоседа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ђутим, одговарајући степен седације се може постићи и без примене лекова, поступком који се назив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јатроседа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Циљеви примене сед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2470-EB8A-4889-AD31-CD4A68A6E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12920" y="1639800"/>
            <a:ext cx="81039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еви седације су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 става пацијента према предстојећој интервенц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езбеђење очуване свести (кооперабилнос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изање прага реакције на 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чуваност одбрамбених реф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суство утицаја на виталне фун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изање антероградне амне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Arial"/>
              </a:rPr>
              <a:t>Погодности примене сед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DFB5-27D1-4B8E-AC3D-B1E30D06C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3680" y="1890720"/>
            <a:ext cx="8116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годности примене седације у амбулантним условима постоје како са аспекта пацијента тако и са аспекта лек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ГОДНОСТИ ЗА ПАЦИЈ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ење или потпуно уклањање неконтролисаног страха од стоматолошке интервен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зиолошки стрес за пацијента је јако мањи него да се интервенција покушава извести само у локалној анестез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 је посебно битно за пацијенте који већ имају обољења која се карактеришу поремећајем параметара кардиоваскуларног система, којима би додатни стрес те параметре још погорша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84C8-0C6F-4715-BF87-CE375ECD4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Arial"/>
              </a:rPr>
              <a:t>Погодности примене сед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514440" y="1941480"/>
            <a:ext cx="8128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ГОДНОСТИ ЗА ЛЕ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ћност успостављања сарадње са пацијентом у току стоматолошке интервенције основна је погодност за лек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вођење интервенције знатно је олашано постојањем извесног степена мишићне опуштености, као и одсуством непожељних рефлекса на присуство инструмената и материјала у ус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рефлекс гађења и повраћањ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0561-7587-4354-82A9-E6E380DF8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Индикације и контраиндикације</a:t>
            </a:r>
            <a:br>
              <a:rPr sz="4000"/>
            </a:b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за примену седац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88880" y="1766880"/>
            <a:ext cx="8255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емно нервозни и уплашени пације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цијенти са израженим рефлексом за повра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 се очекује дуготрајна и непријатна интерв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60F6-1CED-4EB3-861B-93BE0EA23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Индикације и контраиндикације</a:t>
            </a:r>
            <a:br>
              <a:rPr sz="3600"/>
            </a:b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за примену седац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488880" y="1641600"/>
            <a:ext cx="816624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траиндик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ергија на лекове који се примењују у току сед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цијенти са психијатријским обољењ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цијенти са обољењима јетре и бубрега ( аса 3- аса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уд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необучен персонал за извођење седац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Stefan</cp:lastModifiedBy>
  <dcterms:modified xsi:type="dcterms:W3CDTF">2020-02-14T07:38:33Z</dcterms:modified>
  <cp:revision>681</cp:revision>
  <dc:subject/>
  <dc:title>      NAZIV PREDAVANJA</dc:title>
</cp:coreProperties>
</file>